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4B04-4CC0-4783-A19C-4C297F0F5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E84E-D4C4-4B22-ABF9-DA2EFC95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65D9-248F-42DC-9926-229BAED0F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CDDB-CA8E-43B8-827E-A07C98328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59F2-84A8-438C-8241-4400C3E5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4DD2-E791-4C26-840A-CE4176BA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C1D6-64BF-44BA-864E-DDFA4C7B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5AB1-48E7-43B0-A20A-AF45D57B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F153-EBF9-433B-83D9-829EF3E2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3B9C-8719-4905-BEC4-4A9DFF29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F6D9-CC70-449A-BC5E-747AED76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876D-A44E-440C-A669-25E40D72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B7F1-EF74-45FD-9256-ACEEECE5D525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Calibri"/>
              </a:rPr>
              <a:t>PRĂJITURI CU FRIŞC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alificarea Cofetar – Patiser,  Anul de comple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oord. Cristian Dincă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ăjiturile cu frişcă sunt prăjituri cu o structură eterogenă (în ceea ce priveşte suportul), iar în componenţa lor se foloseşte o mare cantitate de frişcă. Ele se pot prezenta fie la bucată (rotunde, tronconice, sub formă de scafă, pătrate, dreptunghiulare), fie ca piese întregi, paralelipiped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tructura prăjiturii, frişca bătută îndeplineşte următoarele funcţii: componentă de umplere a prăjiturii, înlocuind sau completând crema; componentă a cremei, imprimând structura afânată; compon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entr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corare; furnizoare de factori nutritiv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ologia prăjiturilor cu frişcă este variată, dar se impune respectarea următoarelor cerinţe: indiferent de funcţie, frişca se foloseşte bătută, iar baterea se face în momentul utilizării; dacă este o componentă a cremei, frişca trebuie însoţită de gelatină care are rolul de a stabiliza structura spumoasă; dacă este utilizată la decorare, se va turna cu puţin timp înaintea expedierii spre vânzare, cu poşul cu spriţ mare (pentru a evita eliminarea aerului şi a umidităţii prin presarea intensă a poşului)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treaga structură a prăjiturilor cu frişcă este un concentrat de factori nutritivi cu valoare biologică mare, proteine complete, lipide emulsionate, vitaminele liposolubile A şi D, substanţe minerale (Ca, P, Fe) glucide sim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şca bătută, element de bază, participă la întregirea sau echilibrarea valorii alimentare a prăjituril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frişc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comp_i"/>
          <p:cNvPicPr/>
          <p:nvPr/>
        </p:nvPicPr>
        <p:blipFill>
          <a:blip r:embed="rId1"/>
          <a:stretch/>
        </p:blipFill>
        <p:spPr>
          <a:xfrm>
            <a:off x="5508720" y="1557360"/>
            <a:ext cx="267660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jituri cu frişcă cu su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ataif – cataif cu frişcă. Operaţii pregătitoar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cataifului cru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siropului [...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gătirea cataifului însiropat [...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aluat dospit – Savarin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aluatului dospi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rţionarea aluatului în forme pentru savarine unse uşor cu ule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ospirea finală, coacerea la foc potrivit, scoaterea în stare caldă, răcirea. [...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oji indiene – Indiene cu frişc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formizarea cojilor şi împerecherea l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luidizarea fondantulu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mparea şi glasarea suprafeţei bombate pentru jumătate din numărul cojilor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pişcoturi de şampanie – Prăjitura Diplomat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jumătate din cantitatea de pişcoturi se taie în două, transversal (pe lăţime), se aşază pe platou pentru a se stropi cu 1/2 din cantitatea de lichior Triple sec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ogenizarea cremei şarlotă de vanilie cu răzătură de portocale şi fructe confiate asort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ăierea fructelor confiate după scurgerea de sirop, pentru decorar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Guest</cp:lastModifiedBy>
  <dcterms:modified xsi:type="dcterms:W3CDTF">2012-06-15T12:33:30Z</dcterms:modified>
  <cp:revision>29</cp:revision>
  <dc:subject/>
  <dc:title>SALARIUL</dc:title>
</cp:coreProperties>
</file>